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B291-A20B-4C94-AA8A-DBDE44C35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EDF8-1869-413E-9ABA-DF5E5673C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008F-D03C-4FCF-8FD4-E83111FCD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A0F1-E589-410D-81FB-A74677343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EE84-88E7-4635-9632-D4328B3CC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6DE-BDBF-471A-8ECB-38E99B20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E1A-BC6F-4355-9A85-07A83595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BC6-73C3-430B-AF4F-21D093E3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DD9-688A-4707-8F89-5B8E9632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7BA-8E56-4828-8289-62371848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6CB-B5D6-4EFF-B7E0-52E2694A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8DD-E351-4D9C-8DE4-3ECFF9DF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B87-06A2-46B7-82A2-0FA39E9E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D2E-0F08-4228-8B4B-9988D199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372-43F7-4AAA-A923-6A67B98C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4710-9EE5-4789-9ABA-921FFAC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D39-6DE4-4166-943E-A3C36B5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F594-BF23-4D62-A061-764D2F23B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800" y="8380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lackadder ITC"/>
              </a:rPr>
              <a:t>The Wife of Bat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cathedralcatholic.org/academics/homework/johnson/wifes%20of%20Bath.jpg"/>
          <p:cNvPicPr/>
          <p:nvPr/>
        </p:nvPicPr>
        <p:blipFill>
          <a:blip r:embed="rId1"/>
          <a:stretch/>
        </p:blipFill>
        <p:spPr>
          <a:xfrm>
            <a:off x="457200" y="762120"/>
            <a:ext cx="2390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of tale – Chivalric Ro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e – R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ishment – Find out what women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omen want?  To have control (power) over their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y – The queen has power over her husband and the knight.  The old woman is given a choice at the end of the t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ight’s 3 complaints about his wife/Her re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is old – You should show respect to people who are old.  ll. 391-3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is poor – The truly poor are those who whine because they don’t get what they want.  A poor person has nothing that will tempt thieves.  Poverty brings one closer to God.  The poor know who their true friends are.  ll. 363-365, 370, 377-378, 3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 is low bred – One isn’t a gentleman just because he is born into a good family.  ll.  328-3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rprise ending – The woman makes herself young, beautiful, AND faithfu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the knight learn?  Give women what they want, and they will make you hap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fe of Bath’s conclusion – Jesus should punish husbands who are bossy or stin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5:23:07Z</dcterms:created>
  <dc:creator>pcoles</dc:creator>
  <dc:description/>
  <dc:language>en-US</dc:language>
  <cp:lastModifiedBy> </cp:lastModifiedBy>
  <dcterms:modified xsi:type="dcterms:W3CDTF">2009-02-10T14:13:47Z</dcterms:modified>
  <cp:revision>5</cp:revision>
  <dc:subject/>
  <dc:title>The Wife of Bath</dc:title>
</cp:coreProperties>
</file>